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4C2-73F0-48C8-9091-125E0F51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C9B8-DD17-4DDC-8DCF-F2A89BC0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140-2170-4194-BC71-2B443604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898D-2C7C-4B9F-81CD-5686F25E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8D3E-FB58-46B0-9114-00E2B734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EEF1-04B8-4ED8-A2F6-9CF781E3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E2F0-0A84-4163-9FFB-6CBBBD2E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5AF6-0F3D-4345-AB6D-3E9396DA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751-0B45-4BC8-940F-5BED2C94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ED28-9988-494E-A4C0-133F813B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66B-F34F-4768-B9DE-16FFA45D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8CF3-8A3E-42F9-B7E0-1DB81653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3C66-CA15-42BD-8E43-F1F146272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Exploring Parks with Ranger Docket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rip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wim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nes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8. brav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9. gla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0. los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1. spac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club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ston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nex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storm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3. sprin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4. student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Exploring Parks with Ranger Dockett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rip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wim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gla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step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los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ploring Parks with Ranger Dockett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6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pacesui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6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ragonfl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6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6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hundred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9. blend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10. hairbrush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11. drawing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. flo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. insta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. comple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52280"/>
            <a:ext cx="44956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2. bloom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3. plast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4. explor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Kathryn Cobb</cp:lastModifiedBy>
  <dcterms:modified xsi:type="dcterms:W3CDTF">2008-10-29T11:07:32Z</dcterms:modified>
  <cp:revision>4</cp:revision>
  <dc:subject/>
  <dc:title>The Art Lesson Group A</dc:title>
</cp:coreProperties>
</file>